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200" y="46011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32CA1B-9704-48DE-ACA3-802286B1481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A9B84D-6B6E-4E2B-B2B9-5D572C9F2DF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66200" y="985320"/>
            <a:ext cx="8132760" cy="53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E1F2B1-D14E-4C84-A9A9-6698A080CC1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DA4A21-023A-4B8B-923A-5E08807ACEF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3356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F6D234-ACD5-4D03-8B5E-5E45956C45C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6FC9D9-ED84-421D-868E-39A49994ADA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200" y="46011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162FE0-D21D-4376-87C0-B2735B96650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3356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73E215-152D-4FAE-973B-9663601AFC1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1624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96628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620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1624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96628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7760B4-07B4-4D5D-A507-43189F767E1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9469E-2466-4E9F-B033-38C0DA7AD4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3356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C27B0-767E-427A-8EDD-5176FD59BEC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80924-6C87-4213-AE11-BACD70828E1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FB664-89CB-49FB-98D7-70C0B5C526E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D37E2-BF91-4856-BEA2-F6AE67E6663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66200" y="985320"/>
            <a:ext cx="8132760" cy="53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F1BCC-4F29-4744-9B90-F957AA41F6D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8F280-5E94-447E-A66D-4989FE1C994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3356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690D1-CB0D-4B2C-9169-F3ECF526503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3F17B-B90F-4C7E-9C3F-D08932E5479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200" y="46011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3234A-D3AB-4728-897D-2C2CD72B5F4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3356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4A7F1-6001-4FA4-AA5C-9C2DD877D5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624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6628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20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624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6628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1624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6628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620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1624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6628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84878-5D91-4F83-9453-22DBF2777A7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EF00E6-4CEE-40F6-A941-36DC6017118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6DC226-CFF6-4464-9F57-B532DFE3B8D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3BADD2-2700-4884-B814-CE7B5473996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DBA9BA-4729-40B2-9DDA-D4B6513E7A2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0EBA22-E2DE-41D7-844E-1AA632A1B39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66200" y="985320"/>
            <a:ext cx="8132760" cy="53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6F4AF6-D27D-4B26-8E40-BAF8458F7D6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D028E4-C7B3-463F-8B8E-4F615F115B7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3356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DD3222-BADE-4D2B-BD1C-752AB8C9C2B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3C6D5A-4D51-4682-B96A-D0D0DD526D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30CF1-8DD1-4E6E-BC76-3DCEC6A8E3B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200" y="46011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3A841B-3A4A-40F1-A108-3F9F49501B6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3356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692F20-1EA0-4402-B4BF-A54F46EBA8F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1624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596628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620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1624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596628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C6A498-DE67-427C-97C4-C206107AA5E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24E944-3E47-47C7-854B-562DBB4A096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6E295E-B5F3-4505-97BF-7D8522CC0FB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B48982-8DA3-498F-B135-5DA4907378D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3D11F9-C4AA-4A7D-83A5-D12FD4EA866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536F3E-CE08-4CBE-9527-651D3110975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66200" y="985320"/>
            <a:ext cx="8132760" cy="53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70014D-71CB-4D3E-9388-44724C3562E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C8CA65-8B4D-47C9-8D94-418FB457F5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330A4-40DF-4645-A180-1D45FB575CA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3356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EA3887-64BE-4F9C-A591-AE11EBD0D59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C06A17-D026-4761-9423-1B65C8E22C0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200" y="46011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FD833B-57C2-4666-A2CC-C4E083B4721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3356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CB6E87-B36E-4EA8-9365-DD94AB2EFCE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1624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96628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620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1624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596628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E9F34F-07E8-4811-ADE7-EE6761B1247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BEEF9-67AE-4EB0-9E00-35EF99E176B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B5A76-BBF6-48FC-9E89-75B7386AC4A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C2B14-B1A7-4088-AACE-6D91246E34A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A14A4-1B45-446A-B3AE-3F11B2FB781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DBAFF-3DB3-4A97-828A-E7D20D42AF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92E41-E218-44C5-9648-F40A43973C9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66200" y="985320"/>
            <a:ext cx="8132760" cy="53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F3D30-4F33-4100-BD65-E72AEEA3647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392A5-AE5B-41E7-9150-6ABEE65CA11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3356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F19D2-55FA-4EF0-B566-5DDCBDE7F71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F53C8-18BF-4155-A6D7-5EB3E678DD7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200" y="46011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CDA06-ED32-4A0F-9303-E3F539BD4E0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3356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82E06-29F0-4892-BFCE-A8BCA0DA41C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1624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96628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620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1624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596628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268F6-B7A8-4289-B7D7-9C420816A76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F0F9DA-587E-4CD1-8CA1-695AC386258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700023-70B0-4987-9E40-067D3384C733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68DBF9-CE89-4CB8-89F0-DB93BD02CD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96CA0-6BEE-4F43-975A-7FF9A0109FF8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11F649-CF22-474A-B364-152F31AF56D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0D39D7-38BC-4545-9E9D-9C443AE0A05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66200" y="985320"/>
            <a:ext cx="8132760" cy="53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646203-9094-4BCD-802C-524582D5D8F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4FB297-7EFC-48AB-92C7-27A55E63A74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3356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E92D31-FA9D-4AAF-89AF-90FA86A93791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57309C-DB4B-4D62-BFEE-AFB4146C9716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6200" y="46011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E0BCC8-9EE8-4077-AC45-699DCEA5BC8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3356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8A2162-334E-4D2B-B361-8895DFE42F9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1624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96628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20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1624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596628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46FC88-A1C5-45C9-9F54-705677E4010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D7A864-AA5A-4C19-B442-0446BC5769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60E65-8D25-492A-B2A2-457AC382EFCF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9D836A-FD78-41F4-9FAE-40101C5E20B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044825-E616-417B-90FC-4F15574F95E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D78F40-2DE8-4BC6-917B-B3CE4BB63D7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A7AD6B-DAE1-4D54-8A58-1A7A8AAD4B8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466200" y="985320"/>
            <a:ext cx="8132760" cy="53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C80590-23A1-4C46-ACEB-439E984CBC42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6A44BB-2EAA-4A30-AC94-5B84AF14E7D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3356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ED2947-4E30-440E-BB06-5E65FA8001B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25C594-E0DC-4C40-89A7-B9AF393BCF8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6200" y="46011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82AA11-CDEF-44EF-9F7A-B7FAEC2B27A4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3356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C0F372-8938-48B2-BC59-26570AE076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66200" y="985320"/>
            <a:ext cx="8132760" cy="53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DA65A-C509-4A4B-947A-803F59BA3691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21624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96628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620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21624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596628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B74A8D-E1AD-4810-A24F-F7C2E14CAD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DB770-92B2-4A8D-95B4-63D991987A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3356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1983C-1EE3-48F6-B3F1-1ADF0AB98E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967AA-7C6D-483C-8DD3-6F6CBB5A98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200" y="46011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24833-BFFD-442A-8EA2-A0400CA118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3356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98248-0BB4-4DB8-AC2E-C0D7F676E9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1624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6628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20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1624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6628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C6CA7-9F0D-43D1-B709-1AB80C9F6C3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58CFF-9449-4C7A-9A2F-58768285158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FD368-5C7E-4309-8F00-E0BE52E5F1B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180B5-9993-4F6E-A488-A7B03D91099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10B0B-8F32-4EE1-B6A3-4D1EA97A134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0616F-364A-4A0B-8B14-4E36D40A1D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66200" y="985320"/>
            <a:ext cx="8132760" cy="53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74FDF-F664-43B6-AFB2-BFDBA59E86D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029C8-E583-4FC6-82F9-23095D313B4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3356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B91E1-D46D-4B82-BE42-36C64E38E44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9F1AF-C22B-4E1D-AAB0-7234B2C58D2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200" y="46011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44848-026A-4CD4-9381-082E3169767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3356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F4D1F-E33B-418C-B9F1-B92A6D8ABB7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1624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6628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20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1624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6628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7F845-C66D-40EB-A7D2-B0E160F7221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C4BA-0A49-4863-A571-1A2C3489F9C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CE06-A7CB-40DC-93AD-F3D14D277F5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9A95-43B1-4E8D-8436-02AFF30C03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02C1-9363-45BA-88A7-58DD1B1EE94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8B7C-E5C7-4F3C-A523-92CB39D0CDE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66200" y="985320"/>
            <a:ext cx="8132760" cy="53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FC69-3825-4960-A21E-46CCBAB24D5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7FFB-B95C-4306-B1D1-A08E8043146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3356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9DDD-C0AB-4BDC-8165-9E643C8ABA2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B743-5605-49E5-B807-68F03543022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200" y="46011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CBD4-EF8A-430F-9B9A-359D548E320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3356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3E6B-D177-408D-B4A9-B4E3123C8D7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1624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6628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20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1624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6628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4CD0-2DAC-421F-B3A7-6742BA90652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3E8E59-986F-40B3-AB12-92114F02C8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3C80A6-91AF-4E02-9126-ABA4E8518B6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D358C-6A5F-4E2C-9CD2-316C59DABD4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5AAAF1-C5A0-4644-BC6E-1C17818E850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86042A-3197-4F2C-B00B-2C40F0EAB71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66200" y="985320"/>
            <a:ext cx="8132760" cy="53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862932-6137-4AFA-B2DA-E3416A7B67A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57197B-5581-49A4-975F-1B0DD625154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3356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919273-E787-4012-B4DB-CEC5C9081BE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57828F-E637-4744-A801-08CDACF0908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200" y="46011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54AAA0-4697-4C00-918C-785277EC0D0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3356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BBBD5-08BD-4DDE-A843-4377BC02E7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66200" y="985320"/>
            <a:ext cx="8132760" cy="53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1624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6628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20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1624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6628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47862-E10A-42F0-9EE4-C25B38C28F9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BE2ED-C839-43B9-BAA4-0B30BDF2020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FA5E9-B5BF-4506-A4A8-D5694E8BCC8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C4278B-A328-46F4-8B47-C3C3ED0337A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94EEB-DB02-4F0F-B4CE-4B4C1026DB4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DF23C-4E21-4C5B-973B-0CE1126BA87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66200" y="985320"/>
            <a:ext cx="8132760" cy="53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D7310-C0BC-49D4-9A5B-B4041720D1A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30F8EC-C574-46AB-8757-7CD93749322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3356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30D282-7AF2-4A3B-AA0A-FB82E3711B5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30F56-5EBB-43C0-8B09-CCE94497C6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200" y="46011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53415-D046-457B-95C6-4A21235B72A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3356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196161-6E36-4EE3-BC52-B0B9C41633F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1624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6628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620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1624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6628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F95C3-8AC9-42E4-A263-A9B53F7459E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4535-F3ED-4345-95C7-CA38E6F92F2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CE3A-0945-4818-9931-65FED0BFE81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7F24-8CD4-44F6-A4E8-C32A9A2476A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02D4-90F1-4BFE-878A-8725CEC598D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8CED-3F89-4E49-B9EE-C2EA51C5D72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66200" y="985320"/>
            <a:ext cx="8132760" cy="53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07C2-685E-4DF1-B52C-6440456E865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7E14-4DF1-402E-9AF6-3E24631FB9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56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3356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3D9ED-AD6C-49E5-8920-D1E81AA0F0D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3064-0A03-4A3B-8C30-DA1A690108C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200" y="46011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EDBC-7FEB-488E-B726-ADB87F4ACB8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3356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5AF0-4D09-4007-8ED8-6AF2957F929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1624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96628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620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1624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596628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9F9B-9832-4468-A08D-5363C12B69F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BDBC5D-0280-484E-8D74-A3D96D38578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A640BF-DAD4-42E5-BE83-9CAF7566A7E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08F216-0C5F-42A1-9A92-66F33CC9A8D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B79311-486D-4099-9EAB-A660D444C26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7B08B0-781F-4C5D-8C4C-F5ED2FE513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66200" y="985320"/>
            <a:ext cx="8132760" cy="53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6296D2-A8B1-40FB-B546-FA60B7E2AD4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6C0388-F899-46A8-89DF-00CF0121891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3356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65DC11-21D0-4258-969B-814DECEFCFD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9282B1-4A18-4A9E-A7F5-07A37627359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200" y="46011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F89794-2CAF-4F75-9D39-09973544BFB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3356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FF61C8-8AF2-4C53-9F18-719A4BEA8CF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1624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96628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620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1624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596628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20A4E4-DC78-44B9-B143-16504A2D5FB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4F4053-882C-4035-A3CC-9A8FA0AA9EE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CFBD28-267E-46E7-8E35-1AE04C8EED6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B4A73B-0C6E-4649-9E3A-6C131256B8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kkurat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1" marL="731880" indent="-28584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2" marL="11318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3" marL="15890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4" marL="20462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5" marL="20462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6" marL="20462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" descr=""/>
          <p:cNvPicPr/>
          <p:nvPr/>
        </p:nvPicPr>
        <p:blipFill>
          <a:blip r:embed="rId2"/>
          <a:stretch/>
        </p:blipFill>
        <p:spPr>
          <a:xfrm>
            <a:off x="468360" y="334800"/>
            <a:ext cx="3024000" cy="549360"/>
          </a:xfrm>
          <a:prstGeom prst="rect">
            <a:avLst/>
          </a:prstGeom>
          <a:ln w="0">
            <a:noFill/>
          </a:ln>
        </p:spPr>
      </p:pic>
      <p:sp>
        <p:nvSpPr>
          <p:cNvPr id="378" name="Line 2"/>
          <p:cNvSpPr/>
          <p:nvPr/>
        </p:nvSpPr>
        <p:spPr>
          <a:xfrm>
            <a:off x="503280" y="1065240"/>
            <a:ext cx="813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4789440" y="419040"/>
            <a:ext cx="38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Experimentelle Physik V</a:t>
            </a:r>
            <a:r>
              <a:rPr b="0" lang="en-US" sz="1500" spc="-1" strike="noStrike">
                <a:solidFill>
                  <a:srgbClr val="000000"/>
                </a:solidFill>
                <a:latin typeface="Akkurat Light Office Regular"/>
                <a:ea typeface="Akkurat Light Office Regular"/>
              </a:rPr>
              <a:t> /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kkurat Light Office Regular"/>
                <a:ea typeface="Akkurat Light Office Regular"/>
              </a:rPr>
              <a:t>Fakultät Physi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Num" idx="9"/>
          </p:nvPr>
        </p:nvSpPr>
        <p:spPr>
          <a:xfrm>
            <a:off x="7959240" y="6324480"/>
            <a:ext cx="1573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b73d"/>
                </a:solidFill>
                <a:latin typeface="Akkurat-Light"/>
                <a:ea typeface="Akkurat-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0872-4097-44C9-B52A-F02DF3BCFEDF}" type="slidenum">
              <a:rPr b="0" lang="en-US" sz="1000" spc="-1" strike="noStrike">
                <a:solidFill>
                  <a:srgbClr val="83b73d"/>
                </a:solidFill>
                <a:latin typeface="Akkurat-Light"/>
                <a:ea typeface="Akkurat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617400" y="6475320"/>
            <a:ext cx="46879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Wolfgang Rhode | Intertwining Theory and Observational Evidenc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Contemporary Cosmology, Wuppertal | 14.2.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kkurat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body"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1" marL="731880" indent="-28584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2" marL="11318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3" marL="15890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4" marL="20462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5" marL="20462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6" marL="20462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1" descr=""/>
          <p:cNvPicPr/>
          <p:nvPr/>
        </p:nvPicPr>
        <p:blipFill>
          <a:blip r:embed="rId2"/>
          <a:stretch/>
        </p:blipFill>
        <p:spPr>
          <a:xfrm>
            <a:off x="468360" y="334800"/>
            <a:ext cx="3024000" cy="549360"/>
          </a:xfrm>
          <a:prstGeom prst="rect">
            <a:avLst/>
          </a:prstGeom>
          <a:ln w="0">
            <a:noFill/>
          </a:ln>
        </p:spPr>
      </p:pic>
      <p:sp>
        <p:nvSpPr>
          <p:cNvPr id="421" name="Line 2"/>
          <p:cNvSpPr/>
          <p:nvPr/>
        </p:nvSpPr>
        <p:spPr>
          <a:xfrm>
            <a:off x="503280" y="1065240"/>
            <a:ext cx="813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4789440" y="419040"/>
            <a:ext cx="38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Experimentelle Physik V</a:t>
            </a:r>
            <a:r>
              <a:rPr b="0" lang="en-US" sz="1500" spc="-1" strike="noStrike">
                <a:solidFill>
                  <a:srgbClr val="000000"/>
                </a:solidFill>
                <a:latin typeface="Akkurat Light Office Regular"/>
                <a:ea typeface="Akkurat Light Office Regular"/>
              </a:rPr>
              <a:t> /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kkurat Light Office Regular"/>
                <a:ea typeface="Akkurat Light Office Regular"/>
              </a:rPr>
              <a:t>Fakultät Physi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Num" idx="10"/>
          </p:nvPr>
        </p:nvSpPr>
        <p:spPr>
          <a:xfrm>
            <a:off x="7959240" y="6324480"/>
            <a:ext cx="1573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b73d"/>
                </a:solidFill>
                <a:latin typeface="Akkurat-Light"/>
                <a:ea typeface="Akkurat-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04A8-7F51-4A11-B16D-E3AEDD71C781}" type="slidenum">
              <a:rPr b="0" lang="en-US" sz="1000" spc="-1" strike="noStrike">
                <a:solidFill>
                  <a:srgbClr val="83b73d"/>
                </a:solidFill>
                <a:latin typeface="Akkurat-Light"/>
                <a:ea typeface="Akkurat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617400" y="6475320"/>
            <a:ext cx="46879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Wolfgang Rhode | Intertwining Theory and Observational Evidenc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Contemporary Cosmology, Wuppertal | 14.2.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kkurat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body"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1" marL="731880" indent="-28584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2" marL="11318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3" marL="15890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4" marL="20462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5" marL="20462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6" marL="20462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1" descr=""/>
          <p:cNvPicPr/>
          <p:nvPr/>
        </p:nvPicPr>
        <p:blipFill>
          <a:blip r:embed="rId2"/>
          <a:stretch/>
        </p:blipFill>
        <p:spPr>
          <a:xfrm>
            <a:off x="468360" y="334800"/>
            <a:ext cx="3024000" cy="549360"/>
          </a:xfrm>
          <a:prstGeom prst="rect">
            <a:avLst/>
          </a:prstGeom>
          <a:ln w="0">
            <a:noFill/>
          </a:ln>
        </p:spPr>
      </p:pic>
      <p:sp>
        <p:nvSpPr>
          <p:cNvPr id="464" name="Line 2"/>
          <p:cNvSpPr/>
          <p:nvPr/>
        </p:nvSpPr>
        <p:spPr>
          <a:xfrm>
            <a:off x="503280" y="1065240"/>
            <a:ext cx="813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4789440" y="419040"/>
            <a:ext cx="38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Experimentelle Physik V</a:t>
            </a:r>
            <a:r>
              <a:rPr b="0" lang="en-US" sz="1500" spc="-1" strike="noStrike">
                <a:solidFill>
                  <a:srgbClr val="000000"/>
                </a:solidFill>
                <a:latin typeface="Akkurat Light Office Regular"/>
                <a:ea typeface="Akkurat Light Office Regular"/>
              </a:rPr>
              <a:t> /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kkurat Light Office Regular"/>
                <a:ea typeface="Akkurat Light Office Regular"/>
              </a:rPr>
              <a:t>Fakultät Physi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Num" idx="11"/>
          </p:nvPr>
        </p:nvSpPr>
        <p:spPr>
          <a:xfrm>
            <a:off x="7959240" y="6324480"/>
            <a:ext cx="1573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b73d"/>
                </a:solidFill>
                <a:latin typeface="Akkurat-Light"/>
                <a:ea typeface="Akkurat-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A22F-288E-40F3-B8E7-EBFBB452E859}" type="slidenum">
              <a:rPr b="0" lang="en-US" sz="1000" spc="-1" strike="noStrike">
                <a:solidFill>
                  <a:srgbClr val="83b73d"/>
                </a:solidFill>
                <a:latin typeface="Akkurat-Light"/>
                <a:ea typeface="Akkurat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617400" y="6475320"/>
            <a:ext cx="46879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Wolfgang Rhode | Intertwining Theory and Observational Evidenc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Contemporary Cosmology, Wuppertal | 14.2.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kkurat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body"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1" marL="731880" indent="-28584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2" marL="11318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3" marL="15890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4" marL="20462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5" marL="20462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6" marL="20462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1" descr=""/>
          <p:cNvPicPr/>
          <p:nvPr/>
        </p:nvPicPr>
        <p:blipFill>
          <a:blip r:embed="rId2"/>
          <a:stretch/>
        </p:blipFill>
        <p:spPr>
          <a:xfrm>
            <a:off x="468360" y="334800"/>
            <a:ext cx="3024000" cy="549360"/>
          </a:xfrm>
          <a:prstGeom prst="rect">
            <a:avLst/>
          </a:prstGeom>
          <a:ln w="0">
            <a:noFill/>
          </a:ln>
        </p:spPr>
      </p:pic>
      <p:sp>
        <p:nvSpPr>
          <p:cNvPr id="507" name="Line 2"/>
          <p:cNvSpPr/>
          <p:nvPr/>
        </p:nvSpPr>
        <p:spPr>
          <a:xfrm>
            <a:off x="503280" y="1065240"/>
            <a:ext cx="813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4789440" y="419040"/>
            <a:ext cx="38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Experimentelle Physik V</a:t>
            </a:r>
            <a:r>
              <a:rPr b="0" lang="en-US" sz="1500" spc="-1" strike="noStrike">
                <a:solidFill>
                  <a:srgbClr val="000000"/>
                </a:solidFill>
                <a:latin typeface="Akkurat Light Office Regular"/>
                <a:ea typeface="Akkurat Light Office Regular"/>
              </a:rPr>
              <a:t> /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kkurat Light Office Regular"/>
                <a:ea typeface="Akkurat Light Office Regular"/>
              </a:rPr>
              <a:t>Fakultät Physi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Num" idx="12"/>
          </p:nvPr>
        </p:nvSpPr>
        <p:spPr>
          <a:xfrm>
            <a:off x="7959240" y="6324480"/>
            <a:ext cx="1573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b73d"/>
                </a:solidFill>
                <a:latin typeface="Akkurat-Light"/>
                <a:ea typeface="Akkurat-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E9FE-3707-49B9-9B31-EB94883DAD7E}" type="slidenum">
              <a:rPr b="0" lang="en-US" sz="1000" spc="-1" strike="noStrike">
                <a:solidFill>
                  <a:srgbClr val="83b73d"/>
                </a:solidFill>
                <a:latin typeface="Akkurat-Light"/>
                <a:ea typeface="Akkurat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kkurat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body"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1" marL="731880" indent="-28584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2" marL="11318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3" marL="15890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4" marL="20462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5" marL="20462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6" marL="20462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1" descr=""/>
          <p:cNvPicPr/>
          <p:nvPr/>
        </p:nvPicPr>
        <p:blipFill>
          <a:blip r:embed="rId2"/>
          <a:stretch/>
        </p:blipFill>
        <p:spPr>
          <a:xfrm>
            <a:off x="468360" y="334800"/>
            <a:ext cx="3024000" cy="549360"/>
          </a:xfrm>
          <a:prstGeom prst="rect">
            <a:avLst/>
          </a:prstGeom>
          <a:ln w="0">
            <a:noFill/>
          </a:ln>
        </p:spPr>
      </p:pic>
      <p:sp>
        <p:nvSpPr>
          <p:cNvPr id="549" name="Line 2"/>
          <p:cNvSpPr/>
          <p:nvPr/>
        </p:nvSpPr>
        <p:spPr>
          <a:xfrm>
            <a:off x="503280" y="1065240"/>
            <a:ext cx="813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4789440" y="419040"/>
            <a:ext cx="38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Experimentelle Physik V</a:t>
            </a:r>
            <a:r>
              <a:rPr b="0" lang="en-US" sz="1500" spc="-1" strike="noStrike">
                <a:solidFill>
                  <a:srgbClr val="000000"/>
                </a:solidFill>
                <a:latin typeface="Akkurat Light Office Regular"/>
                <a:ea typeface="Akkurat Light Office Regular"/>
              </a:rPr>
              <a:t> /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kkurat Light Office Regular"/>
                <a:ea typeface="Akkurat Light Office Regular"/>
              </a:rPr>
              <a:t>Fakultät Physi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Num" idx="13"/>
          </p:nvPr>
        </p:nvSpPr>
        <p:spPr>
          <a:xfrm>
            <a:off x="7959240" y="6324480"/>
            <a:ext cx="1573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b73d"/>
                </a:solidFill>
                <a:latin typeface="Akkurat-Light"/>
                <a:ea typeface="Akkurat-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CB49-26E7-40B2-AFE8-B6226C9B025D}" type="slidenum">
              <a:rPr b="0" lang="en-US" sz="1000" spc="-1" strike="noStrike">
                <a:solidFill>
                  <a:srgbClr val="83b73d"/>
                </a:solidFill>
                <a:latin typeface="Akkurat-Light"/>
                <a:ea typeface="Akkurat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kkurat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body"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1" marL="731880" indent="-28584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2" marL="11318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3" marL="15890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4" marL="20462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5" marL="20462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6" marL="20462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1" descr=""/>
          <p:cNvPicPr/>
          <p:nvPr/>
        </p:nvPicPr>
        <p:blipFill>
          <a:blip r:embed="rId2"/>
          <a:stretch/>
        </p:blipFill>
        <p:spPr>
          <a:xfrm>
            <a:off x="468360" y="334800"/>
            <a:ext cx="3024000" cy="549360"/>
          </a:xfrm>
          <a:prstGeom prst="rect">
            <a:avLst/>
          </a:prstGeom>
          <a:ln w="0">
            <a:noFill/>
          </a:ln>
        </p:spPr>
      </p:pic>
      <p:sp>
        <p:nvSpPr>
          <p:cNvPr id="591" name="Line 2"/>
          <p:cNvSpPr/>
          <p:nvPr/>
        </p:nvSpPr>
        <p:spPr>
          <a:xfrm>
            <a:off x="503280" y="1065240"/>
            <a:ext cx="813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3"/>
          <p:cNvSpPr/>
          <p:nvPr/>
        </p:nvSpPr>
        <p:spPr>
          <a:xfrm>
            <a:off x="4789440" y="419040"/>
            <a:ext cx="38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Experimentelle Physik V</a:t>
            </a:r>
            <a:r>
              <a:rPr b="0" lang="en-US" sz="1500" spc="-1" strike="noStrike">
                <a:solidFill>
                  <a:srgbClr val="000000"/>
                </a:solidFill>
                <a:latin typeface="Akkurat Light Office Regular"/>
                <a:ea typeface="Akkurat Light Office Regular"/>
              </a:rPr>
              <a:t> /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kkurat Light Office Regular"/>
                <a:ea typeface="Akkurat Light Office Regular"/>
              </a:rPr>
              <a:t>Fakultät Physi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Num" idx="14"/>
          </p:nvPr>
        </p:nvSpPr>
        <p:spPr>
          <a:xfrm>
            <a:off x="7959240" y="6324480"/>
            <a:ext cx="1573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b73d"/>
                </a:solidFill>
                <a:latin typeface="Akkurat-Light"/>
                <a:ea typeface="Akkurat-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8654-B919-46FB-9C47-743F9223ABFD}" type="slidenum">
              <a:rPr b="0" lang="en-US" sz="1000" spc="-1" strike="noStrike">
                <a:solidFill>
                  <a:srgbClr val="83b73d"/>
                </a:solidFill>
                <a:latin typeface="Akkurat-Light"/>
                <a:ea typeface="Akkurat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kkurat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body"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1" marL="731880" indent="-28584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2" marL="11318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3" marL="15890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4" marL="20462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5" marL="20462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6" marL="20462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kkurat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1" marL="731880" indent="-28584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2" marL="11318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3" marL="15890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4" marL="20462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5" marL="20462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6" marL="20462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0" name="Line 3"/>
          <p:cNvSpPr/>
          <p:nvPr/>
        </p:nvSpPr>
        <p:spPr>
          <a:xfrm>
            <a:off x="503280" y="1065240"/>
            <a:ext cx="813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1"/>
          </p:nvPr>
        </p:nvSpPr>
        <p:spPr>
          <a:xfrm>
            <a:off x="7959240" y="6324480"/>
            <a:ext cx="1573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b73d"/>
                </a:solidFill>
                <a:latin typeface="Akkurat-Light"/>
                <a:ea typeface="Akkurat-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C038-D78A-4D0B-8B93-04D274B227A7}" type="slidenum">
              <a:rPr b="0" lang="en-US" sz="1000" spc="-1" strike="noStrike">
                <a:solidFill>
                  <a:srgbClr val="83b73d"/>
                </a:solidFill>
                <a:latin typeface="Akkurat-Light"/>
                <a:ea typeface="Akkurat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1"/>
          <p:cNvSpPr/>
          <p:nvPr/>
        </p:nvSpPr>
        <p:spPr>
          <a:xfrm>
            <a:off x="503280" y="1065240"/>
            <a:ext cx="813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Num" idx="2"/>
          </p:nvPr>
        </p:nvSpPr>
        <p:spPr>
          <a:xfrm>
            <a:off x="7959240" y="6324480"/>
            <a:ext cx="1573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b73d"/>
                </a:solidFill>
                <a:latin typeface="Akkurat-Light"/>
                <a:ea typeface="Akkurat-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1524-4408-42C6-AC52-F550F659F213}" type="slidenum">
              <a:rPr b="0" lang="en-US" sz="1000" spc="-1" strike="noStrike">
                <a:solidFill>
                  <a:srgbClr val="83b73d"/>
                </a:solidFill>
                <a:latin typeface="Akkurat-Light"/>
                <a:ea typeface="Akkurat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351000" y="6348240"/>
            <a:ext cx="468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Wolfgang Rhode | Michael Gilde Dortmund | 3.2.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kkurat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body"/>
          </p:nvPr>
        </p:nvSpPr>
        <p:spPr>
          <a:xfrm>
            <a:off x="471240" y="2133360"/>
            <a:ext cx="812772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1" marL="731880" indent="-28584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2" marL="11318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3" marL="15890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4" marL="20462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5" marL="20462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6" marL="20462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"/>
          <p:cNvPicPr/>
          <p:nvPr/>
        </p:nvPicPr>
        <p:blipFill>
          <a:blip r:embed="rId2"/>
          <a:stretch/>
        </p:blipFill>
        <p:spPr>
          <a:xfrm>
            <a:off x="468360" y="334800"/>
            <a:ext cx="3024000" cy="549360"/>
          </a:xfrm>
          <a:prstGeom prst="rect">
            <a:avLst/>
          </a:prstGeom>
          <a:ln w="0">
            <a:noFill/>
          </a:ln>
        </p:spPr>
      </p:pic>
      <p:sp>
        <p:nvSpPr>
          <p:cNvPr id="120" name="Line 2"/>
          <p:cNvSpPr/>
          <p:nvPr/>
        </p:nvSpPr>
        <p:spPr>
          <a:xfrm>
            <a:off x="503280" y="1065240"/>
            <a:ext cx="813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4789440" y="419040"/>
            <a:ext cx="38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Experimentelle Physik V</a:t>
            </a:r>
            <a:r>
              <a:rPr b="0" lang="en-US" sz="1500" spc="-1" strike="noStrike">
                <a:solidFill>
                  <a:srgbClr val="000000"/>
                </a:solidFill>
                <a:latin typeface="Akkurat Light Office Regular"/>
                <a:ea typeface="Akkurat Light Office Regular"/>
              </a:rPr>
              <a:t> /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kkurat Light Office Regular"/>
                <a:ea typeface="Akkurat Light Office Regular"/>
              </a:rPr>
              <a:t>Fakultät Physi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Num" idx="3"/>
          </p:nvPr>
        </p:nvSpPr>
        <p:spPr>
          <a:xfrm>
            <a:off x="7959240" y="6324480"/>
            <a:ext cx="1573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b73d"/>
                </a:solidFill>
                <a:latin typeface="Akkurat-Light"/>
                <a:ea typeface="Akkurat-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971A-DEF7-471D-9955-9FFA00E9CD3B}" type="slidenum">
              <a:rPr b="0" lang="en-US" sz="1000" spc="-1" strike="noStrike">
                <a:solidFill>
                  <a:srgbClr val="83b73d"/>
                </a:solidFill>
                <a:latin typeface="Akkurat-Light"/>
                <a:ea typeface="Akkurat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617400" y="6475320"/>
            <a:ext cx="46879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Wolfgang Rhode | Michael Gilde Dortmund | 3.2.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kkurat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body"/>
          </p:nvPr>
        </p:nvSpPr>
        <p:spPr>
          <a:xfrm>
            <a:off x="471240" y="2133360"/>
            <a:ext cx="812772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1" marL="731880" indent="-28584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2" marL="11318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3" marL="15890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4" marL="20462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5" marL="20462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6" marL="20462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" descr=""/>
          <p:cNvPicPr/>
          <p:nvPr/>
        </p:nvPicPr>
        <p:blipFill>
          <a:blip r:embed="rId2"/>
          <a:stretch/>
        </p:blipFill>
        <p:spPr>
          <a:xfrm>
            <a:off x="468360" y="334800"/>
            <a:ext cx="3024000" cy="549360"/>
          </a:xfrm>
          <a:prstGeom prst="rect">
            <a:avLst/>
          </a:prstGeom>
          <a:ln w="0">
            <a:noFill/>
          </a:ln>
        </p:spPr>
      </p:pic>
      <p:sp>
        <p:nvSpPr>
          <p:cNvPr id="163" name="Line 2"/>
          <p:cNvSpPr/>
          <p:nvPr/>
        </p:nvSpPr>
        <p:spPr>
          <a:xfrm>
            <a:off x="503280" y="1065240"/>
            <a:ext cx="813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4789440" y="419040"/>
            <a:ext cx="38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Experimentelle Physik V</a:t>
            </a:r>
            <a:r>
              <a:rPr b="0" lang="en-US" sz="1500" spc="-1" strike="noStrike">
                <a:solidFill>
                  <a:srgbClr val="000000"/>
                </a:solidFill>
                <a:latin typeface="Akkurat Light Office Regular"/>
                <a:ea typeface="Akkurat Light Office Regular"/>
              </a:rPr>
              <a:t> /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kkurat Light Office Regular"/>
                <a:ea typeface="Akkurat Light Office Regular"/>
              </a:rPr>
              <a:t>Fakultät Physi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Num" idx="4"/>
          </p:nvPr>
        </p:nvSpPr>
        <p:spPr>
          <a:xfrm>
            <a:off x="7959240" y="6324480"/>
            <a:ext cx="1573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b73d"/>
                </a:solidFill>
                <a:latin typeface="Akkurat-Light"/>
                <a:ea typeface="Akkurat-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7907-487B-45B1-8244-75893B3F6030}" type="slidenum">
              <a:rPr b="0" lang="en-US" sz="1000" spc="-1" strike="noStrike">
                <a:solidFill>
                  <a:srgbClr val="83b73d"/>
                </a:solidFill>
                <a:latin typeface="Akkurat-Light"/>
                <a:ea typeface="Akkurat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617400" y="6475320"/>
            <a:ext cx="46879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Wolfgang Rhode | Michael Gilde Dortmund | 3.2.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kkurat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body"/>
          </p:nvPr>
        </p:nvSpPr>
        <p:spPr>
          <a:xfrm>
            <a:off x="471240" y="2133360"/>
            <a:ext cx="812772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1" marL="731880" indent="-28584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2" marL="11318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3" marL="15890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4" marL="20462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5" marL="20462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6" marL="20462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" descr=""/>
          <p:cNvPicPr/>
          <p:nvPr/>
        </p:nvPicPr>
        <p:blipFill>
          <a:blip r:embed="rId2"/>
          <a:stretch/>
        </p:blipFill>
        <p:spPr>
          <a:xfrm>
            <a:off x="468360" y="334800"/>
            <a:ext cx="3024000" cy="549360"/>
          </a:xfrm>
          <a:prstGeom prst="rect">
            <a:avLst/>
          </a:prstGeom>
          <a:ln w="0">
            <a:noFill/>
          </a:ln>
        </p:spPr>
      </p:pic>
      <p:sp>
        <p:nvSpPr>
          <p:cNvPr id="206" name="Line 2"/>
          <p:cNvSpPr/>
          <p:nvPr/>
        </p:nvSpPr>
        <p:spPr>
          <a:xfrm>
            <a:off x="503280" y="1065240"/>
            <a:ext cx="813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4789440" y="419040"/>
            <a:ext cx="38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Experimentelle Physik V</a:t>
            </a:r>
            <a:r>
              <a:rPr b="0" lang="en-US" sz="1500" spc="-1" strike="noStrike">
                <a:solidFill>
                  <a:srgbClr val="000000"/>
                </a:solidFill>
                <a:latin typeface="Akkurat Light Office Regular"/>
                <a:ea typeface="Akkurat Light Office Regular"/>
              </a:rPr>
              <a:t> /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kkurat Light Office Regular"/>
                <a:ea typeface="Akkurat Light Office Regular"/>
              </a:rPr>
              <a:t>Fakultät Physi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Num" idx="5"/>
          </p:nvPr>
        </p:nvSpPr>
        <p:spPr>
          <a:xfrm>
            <a:off x="7959240" y="6324480"/>
            <a:ext cx="1573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b73d"/>
                </a:solidFill>
                <a:latin typeface="Akkurat-Light"/>
                <a:ea typeface="Akkurat-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AADE-6C0A-4EE5-84DE-2F0930AC5639}" type="slidenum">
              <a:rPr b="0" lang="en-US" sz="1000" spc="-1" strike="noStrike">
                <a:solidFill>
                  <a:srgbClr val="83b73d"/>
                </a:solidFill>
                <a:latin typeface="Akkurat-Light"/>
                <a:ea typeface="Akkurat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617400" y="6475320"/>
            <a:ext cx="46879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Wolfgang Rhode | Michael Gilde Dortmund | 3.2.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kkurat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body"/>
          </p:nvPr>
        </p:nvSpPr>
        <p:spPr>
          <a:xfrm>
            <a:off x="471240" y="2133360"/>
            <a:ext cx="812772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1" marL="731880" indent="-28584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2" marL="11318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3" marL="15890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4" marL="20462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5" marL="20462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6" marL="20462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1" descr=""/>
          <p:cNvPicPr/>
          <p:nvPr/>
        </p:nvPicPr>
        <p:blipFill>
          <a:blip r:embed="rId2"/>
          <a:stretch/>
        </p:blipFill>
        <p:spPr>
          <a:xfrm>
            <a:off x="468360" y="334800"/>
            <a:ext cx="3024000" cy="549360"/>
          </a:xfrm>
          <a:prstGeom prst="rect">
            <a:avLst/>
          </a:prstGeom>
          <a:ln w="0">
            <a:noFill/>
          </a:ln>
        </p:spPr>
      </p:pic>
      <p:sp>
        <p:nvSpPr>
          <p:cNvPr id="249" name="Line 2"/>
          <p:cNvSpPr/>
          <p:nvPr/>
        </p:nvSpPr>
        <p:spPr>
          <a:xfrm>
            <a:off x="503280" y="1065240"/>
            <a:ext cx="813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4789440" y="419040"/>
            <a:ext cx="38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Experimentelle Physik V</a:t>
            </a:r>
            <a:r>
              <a:rPr b="0" lang="en-US" sz="1500" spc="-1" strike="noStrike">
                <a:solidFill>
                  <a:srgbClr val="000000"/>
                </a:solidFill>
                <a:latin typeface="Akkurat Light Office Regular"/>
                <a:ea typeface="Akkurat Light Office Regular"/>
              </a:rPr>
              <a:t> /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kkurat Light Office Regular"/>
                <a:ea typeface="Akkurat Light Office Regular"/>
              </a:rPr>
              <a:t>Fakultät Physi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Num" idx="6"/>
          </p:nvPr>
        </p:nvSpPr>
        <p:spPr>
          <a:xfrm>
            <a:off x="7959240" y="6324480"/>
            <a:ext cx="1573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b73d"/>
                </a:solidFill>
                <a:latin typeface="Akkurat-Light"/>
                <a:ea typeface="Akkurat-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942A-A341-45B0-8EC9-6B3493FD5936}" type="slidenum">
              <a:rPr b="0" lang="en-US" sz="1000" spc="-1" strike="noStrike">
                <a:solidFill>
                  <a:srgbClr val="83b73d"/>
                </a:solidFill>
                <a:latin typeface="Akkurat-Light"/>
                <a:ea typeface="Akkurat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617400" y="6475320"/>
            <a:ext cx="46879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Wolfgang Rhode | Michael Gilde Dortmund | 3.2.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kkurat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body"/>
          </p:nvPr>
        </p:nvSpPr>
        <p:spPr>
          <a:xfrm>
            <a:off x="471240" y="2133360"/>
            <a:ext cx="812772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1" marL="731880" indent="-28584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2" marL="11318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3" marL="15890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4" marL="20462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5" marL="20462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6" marL="20462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1" descr=""/>
          <p:cNvPicPr/>
          <p:nvPr/>
        </p:nvPicPr>
        <p:blipFill>
          <a:blip r:embed="rId2"/>
          <a:stretch/>
        </p:blipFill>
        <p:spPr>
          <a:xfrm>
            <a:off x="468360" y="334800"/>
            <a:ext cx="3024000" cy="549360"/>
          </a:xfrm>
          <a:prstGeom prst="rect">
            <a:avLst/>
          </a:prstGeom>
          <a:ln w="0">
            <a:noFill/>
          </a:ln>
        </p:spPr>
      </p:pic>
      <p:sp>
        <p:nvSpPr>
          <p:cNvPr id="292" name="Line 2"/>
          <p:cNvSpPr/>
          <p:nvPr/>
        </p:nvSpPr>
        <p:spPr>
          <a:xfrm>
            <a:off x="503280" y="1065240"/>
            <a:ext cx="813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4789440" y="419040"/>
            <a:ext cx="38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Experimentelle Physik V</a:t>
            </a:r>
            <a:r>
              <a:rPr b="0" lang="en-US" sz="1500" spc="-1" strike="noStrike">
                <a:solidFill>
                  <a:srgbClr val="000000"/>
                </a:solidFill>
                <a:latin typeface="Akkurat Light Office Regular"/>
                <a:ea typeface="Akkurat Light Office Regular"/>
              </a:rPr>
              <a:t> /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kkurat Light Office Regular"/>
                <a:ea typeface="Akkurat Light Office Regular"/>
              </a:rPr>
              <a:t>Fakultät Physi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Num" idx="7"/>
          </p:nvPr>
        </p:nvSpPr>
        <p:spPr>
          <a:xfrm>
            <a:off x="7959240" y="6324480"/>
            <a:ext cx="1573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b73d"/>
                </a:solidFill>
                <a:latin typeface="Akkurat-Light"/>
                <a:ea typeface="Akkurat-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CFDB-9DC3-40B2-86E7-E0A6375FCAE0}" type="slidenum">
              <a:rPr b="0" lang="en-US" sz="1000" spc="-1" strike="noStrike">
                <a:solidFill>
                  <a:srgbClr val="83b73d"/>
                </a:solidFill>
                <a:latin typeface="Akkurat-Light"/>
                <a:ea typeface="Akkurat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617400" y="6475320"/>
            <a:ext cx="46879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Wolfgang Rhode | Michael Gilde Dortmund | 3.2.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kkurat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body"/>
          </p:nvPr>
        </p:nvSpPr>
        <p:spPr>
          <a:xfrm>
            <a:off x="471240" y="2133360"/>
            <a:ext cx="812772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1" marL="731880" indent="-28584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2" marL="11318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3" marL="15890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4" marL="20462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5" marL="20462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6" marL="20462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1" descr=""/>
          <p:cNvPicPr/>
          <p:nvPr/>
        </p:nvPicPr>
        <p:blipFill>
          <a:blip r:embed="rId2"/>
          <a:stretch/>
        </p:blipFill>
        <p:spPr>
          <a:xfrm>
            <a:off x="468360" y="334800"/>
            <a:ext cx="3024000" cy="549360"/>
          </a:xfrm>
          <a:prstGeom prst="rect">
            <a:avLst/>
          </a:prstGeom>
          <a:ln w="0">
            <a:noFill/>
          </a:ln>
        </p:spPr>
      </p:pic>
      <p:sp>
        <p:nvSpPr>
          <p:cNvPr id="335" name="Line 2"/>
          <p:cNvSpPr/>
          <p:nvPr/>
        </p:nvSpPr>
        <p:spPr>
          <a:xfrm>
            <a:off x="503280" y="1065240"/>
            <a:ext cx="813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4789440" y="419040"/>
            <a:ext cx="38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Experimentelle Physik V</a:t>
            </a:r>
            <a:r>
              <a:rPr b="0" lang="en-US" sz="1500" spc="-1" strike="noStrike">
                <a:solidFill>
                  <a:srgbClr val="000000"/>
                </a:solidFill>
                <a:latin typeface="Akkurat Light Office Regular"/>
                <a:ea typeface="Akkurat Light Office Regular"/>
              </a:rPr>
              <a:t> /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kkurat Light Office Regular"/>
                <a:ea typeface="Akkurat Light Office Regular"/>
              </a:rPr>
              <a:t>Fakultät Physi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Num" idx="8"/>
          </p:nvPr>
        </p:nvSpPr>
        <p:spPr>
          <a:xfrm>
            <a:off x="7959240" y="6324480"/>
            <a:ext cx="1573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b73d"/>
                </a:solidFill>
                <a:latin typeface="Akkurat-Light"/>
                <a:ea typeface="Akkurat-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9EB5-DD2D-4346-9186-E4615D1DD8FA}" type="slidenum">
              <a:rPr b="0" lang="en-US" sz="1000" spc="-1" strike="noStrike">
                <a:solidFill>
                  <a:srgbClr val="83b73d"/>
                </a:solidFill>
                <a:latin typeface="Akkurat-Light"/>
                <a:ea typeface="Akkurat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617400" y="6475320"/>
            <a:ext cx="46879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Wolfgang Rhode | Michael Gilde Dortmund | 3.2.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kkurat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body"/>
          </p:nvPr>
        </p:nvSpPr>
        <p:spPr>
          <a:xfrm>
            <a:off x="471240" y="2133360"/>
            <a:ext cx="812772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1" marL="731880" indent="-28584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2" marL="11318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3" marL="15890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4" marL="20462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5" marL="20462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6" marL="20462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1" descr=""/>
          <p:cNvPicPr/>
          <p:nvPr/>
        </p:nvPicPr>
        <p:blipFill>
          <a:blip r:embed="rId1"/>
          <a:stretch/>
        </p:blipFill>
        <p:spPr>
          <a:xfrm>
            <a:off x="5702400" y="4276800"/>
            <a:ext cx="3213000" cy="2381040"/>
          </a:xfrm>
          <a:prstGeom prst="rect">
            <a:avLst/>
          </a:prstGeom>
          <a:ln w="0">
            <a:noFill/>
          </a:ln>
        </p:spPr>
      </p:pic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127720" cy="1622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kkurat Office Bold"/>
                <a:ea typeface="Akkurat Office Bold"/>
              </a:rPr>
              <a:t>Technologie des  </a:t>
            </a:r>
            <a:r>
              <a:rPr b="1" lang="en-US" sz="2600" spc="-1" strike="noStrike">
                <a:solidFill>
                  <a:srgbClr val="558e28"/>
                </a:solidFill>
                <a:latin typeface="Akkurat Office Bold"/>
                <a:ea typeface="Akkurat Office Bold"/>
              </a:rPr>
              <a:t>FACT</a:t>
            </a:r>
            <a:r>
              <a:rPr b="1" lang="en-US" sz="2600" spc="-1" strike="noStrike">
                <a:solidFill>
                  <a:srgbClr val="000000"/>
                </a:solidFill>
                <a:latin typeface="Akkurat Office Bold"/>
                <a:ea typeface="Akkurat Office Bold"/>
              </a:rPr>
              <a:t>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kkurat Office Bold"/>
                <a:ea typeface="ヒラギノ角ゴ ProN W6"/>
              </a:rPr>
              <a:t>  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Akkurat Office Bold"/>
                <a:ea typeface="Akkurat Office Bold"/>
              </a:rPr>
              <a:t>= </a:t>
            </a:r>
            <a:r>
              <a:rPr b="1" lang="en-US" sz="2600" spc="-1" strike="noStrike">
                <a:solidFill>
                  <a:srgbClr val="558e28"/>
                </a:solidFill>
                <a:latin typeface="Akkurat Office Bold"/>
                <a:ea typeface="Akkurat Office Bold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Akkurat Office Bold"/>
                <a:ea typeface="Akkurat Office Bold"/>
              </a:rPr>
              <a:t>irst G-</a:t>
            </a:r>
            <a:r>
              <a:rPr b="1" lang="en-US" sz="2600" spc="-1" strike="noStrike">
                <a:solidFill>
                  <a:srgbClr val="558e28"/>
                </a:solidFill>
                <a:latin typeface="Akkurat Office Bold"/>
                <a:ea typeface="Akkurat Office Bold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kkurat Office Bold"/>
                <a:ea typeface="Akkurat Office Bold"/>
              </a:rPr>
              <a:t>PD </a:t>
            </a:r>
            <a:r>
              <a:rPr b="1" lang="en-US" sz="2600" spc="-1" strike="noStrike">
                <a:solidFill>
                  <a:srgbClr val="558e28"/>
                </a:solidFill>
                <a:latin typeface="Akkurat Office Bold"/>
                <a:ea typeface="Akkurat Office Bold"/>
              </a:rPr>
              <a:t>C</a:t>
            </a:r>
            <a:r>
              <a:rPr b="1" lang="en-US" sz="2600" spc="-1" strike="noStrike">
                <a:solidFill>
                  <a:srgbClr val="000000"/>
                </a:solidFill>
                <a:latin typeface="Akkurat Office Bold"/>
                <a:ea typeface="Akkurat Office Bold"/>
              </a:rPr>
              <a:t>herenkov</a:t>
            </a:r>
            <a:r>
              <a:rPr b="1" lang="en-US" sz="2600" spc="-1" strike="noStrike">
                <a:solidFill>
                  <a:srgbClr val="558e28"/>
                </a:solidFill>
                <a:latin typeface="Akkurat Office Bold"/>
                <a:ea typeface="Akkurat Office Bold"/>
              </a:rPr>
              <a:t> T</a:t>
            </a:r>
            <a:r>
              <a:rPr b="1" lang="en-US" sz="2600" spc="-1" strike="noStrike">
                <a:solidFill>
                  <a:srgbClr val="000000"/>
                </a:solidFill>
                <a:latin typeface="Akkurat Office Bold"/>
                <a:ea typeface="Akkurat Office Bold"/>
              </a:rPr>
              <a:t>elescope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kkurat Office Bold"/>
                <a:ea typeface="Akkurat Office Bold"/>
              </a:rPr>
              <a:t>für die   TeV Gamma Astronomie</a:t>
            </a:r>
            <a:br>
              <a:rPr sz="3000"/>
            </a:br>
            <a:endParaRPr b="0" lang="en-US" sz="26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86840" y="2057040"/>
            <a:ext cx="533412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8000"/>
          </a:bodyPr>
          <a:p>
            <a:pPr marL="374760" indent="-3358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 u="sng">
                <a:solidFill>
                  <a:srgbClr val="000000"/>
                </a:solidFill>
                <a:uFillTx/>
                <a:latin typeface="Akkurat Office Bold"/>
                <a:ea typeface="Akkurat Office Bold"/>
              </a:rPr>
              <a:t>Ziel:</a:t>
            </a:r>
            <a:endParaRPr b="0" lang="en-US" sz="1900" spc="-1" strike="noStrike">
              <a:solidFill>
                <a:srgbClr val="000000"/>
              </a:solidFill>
              <a:latin typeface="Akkurat-Light"/>
            </a:endParaRPr>
          </a:p>
          <a:p>
            <a:pPr lvl="1" marL="766800" indent="-280080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a40800"/>
                </a:solidFill>
                <a:latin typeface="Akkurat Office Bold"/>
                <a:ea typeface="Akkurat Office Bold"/>
              </a:rPr>
              <a:t>Konstruktion und Langzeit-Betrieb der ersten G-APD-Kamera !</a:t>
            </a:r>
            <a:endParaRPr b="0" lang="en-US" sz="1900" spc="-1" strike="noStrike">
              <a:solidFill>
                <a:srgbClr val="000000"/>
              </a:solidFill>
              <a:latin typeface="Akkurat-Light"/>
            </a:endParaRPr>
          </a:p>
          <a:p>
            <a:pPr lvl="1" marL="766800" indent="-280080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kkurat Office Bold"/>
                <a:ea typeface="Akkurat Office Bold"/>
              </a:rPr>
              <a:t>Crab</a:t>
            </a:r>
            <a:r>
              <a:rPr b="0" lang="de-DE" sz="1900" spc="-1" strike="noStrike">
                <a:solidFill>
                  <a:srgbClr val="000000"/>
                </a:solidFill>
                <a:latin typeface="Akkurat Office Bold"/>
                <a:ea typeface="Akkurat Office Bold"/>
              </a:rPr>
              <a:t>-Beobachtung</a:t>
            </a:r>
            <a:r>
              <a:rPr b="0" lang="de-DE" sz="1900" spc="-1" strike="noStrike">
                <a:solidFill>
                  <a:srgbClr val="000000"/>
                </a:solidFill>
                <a:latin typeface="Akkurat Office Regular"/>
                <a:ea typeface="Akkurat Office Regular"/>
              </a:rPr>
              <a:t>: kommende Saison</a:t>
            </a:r>
            <a:endParaRPr b="0" lang="en-US" sz="1900" spc="-1" strike="noStrike">
              <a:solidFill>
                <a:srgbClr val="000000"/>
              </a:solidFill>
              <a:latin typeface="Akkurat-Light"/>
            </a:endParaRPr>
          </a:p>
          <a:p>
            <a:pPr lvl="1" marL="766800" indent="-280080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kkurat Office Regular"/>
                <a:ea typeface="Akkurat Office Regular"/>
              </a:rPr>
              <a:t>Klärung, ob die G-APD Technologie für Cherenkov Teleskope grundsätzlich geeignet ist (</a:t>
            </a:r>
            <a:r>
              <a:rPr b="1" lang="de-DE" sz="1900" spc="-1" strike="noStrike">
                <a:solidFill>
                  <a:srgbClr val="000000"/>
                </a:solidFill>
                <a:latin typeface="Akkurat Office Bold"/>
                <a:ea typeface="Akkurat Office Bold"/>
              </a:rPr>
              <a:t>CTA, AGIS, MAGIC</a:t>
            </a:r>
            <a:r>
              <a:rPr b="0" lang="de-DE" sz="1900" spc="-1" strike="noStrike">
                <a:solidFill>
                  <a:srgbClr val="000000"/>
                </a:solidFill>
                <a:latin typeface="Akkurat Office Bold"/>
                <a:ea typeface="Akkurat Office Bold"/>
              </a:rPr>
              <a:t>, ...</a:t>
            </a:r>
            <a:r>
              <a:rPr b="0" lang="de-DE" sz="1900" spc="-1" strike="noStrike">
                <a:solidFill>
                  <a:srgbClr val="000000"/>
                </a:solidFill>
                <a:latin typeface="Akkurat Office Regular"/>
                <a:ea typeface="Akkurat Office Regular"/>
              </a:rPr>
              <a:t>) </a:t>
            </a:r>
            <a:endParaRPr b="0" lang="en-US" sz="1900" spc="-1" strike="noStrike">
              <a:solidFill>
                <a:srgbClr val="000000"/>
              </a:solidFill>
              <a:latin typeface="Akkurat-Light"/>
            </a:endParaRPr>
          </a:p>
          <a:p>
            <a:pPr lvl="1" marL="766800" indent="-280080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kkurat Office Regular"/>
                <a:ea typeface="Akkurat Office Regular"/>
              </a:rPr>
              <a:t>Betrieb im </a:t>
            </a:r>
            <a:r>
              <a:rPr b="0" lang="de-DE" sz="1900" spc="-1" strike="noStrike">
                <a:solidFill>
                  <a:srgbClr val="000000"/>
                </a:solidFill>
                <a:latin typeface="Akkurat-Bold"/>
                <a:ea typeface="Akkurat-Bold"/>
              </a:rPr>
              <a:t>DWARF</a:t>
            </a:r>
            <a:r>
              <a:rPr b="0" lang="de-DE" sz="1900" spc="-1" strike="noStrike">
                <a:solidFill>
                  <a:srgbClr val="000000"/>
                </a:solidFill>
                <a:latin typeface="Akkurat Office Regular"/>
                <a:ea typeface="Akkurat Office Regular"/>
              </a:rPr>
              <a:t>-Physik-Programm ! </a:t>
            </a:r>
            <a:endParaRPr b="0" lang="en-US" sz="1900" spc="-1" strike="noStrike">
              <a:solidFill>
                <a:srgbClr val="000000"/>
              </a:solidFill>
              <a:latin typeface="Akkurat-Light"/>
            </a:endParaRPr>
          </a:p>
          <a:p>
            <a:pPr marL="374760" indent="-3358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 u="sng">
                <a:solidFill>
                  <a:srgbClr val="000000"/>
                </a:solidFill>
                <a:uFillTx/>
                <a:latin typeface="Akkurat Office Bold"/>
                <a:ea typeface="Akkurat Office Bold"/>
              </a:rPr>
              <a:t>Vorhanden:</a:t>
            </a:r>
            <a:endParaRPr b="0" lang="en-US" sz="1900" spc="-1" strike="noStrike">
              <a:solidFill>
                <a:srgbClr val="000000"/>
              </a:solidFill>
              <a:latin typeface="Akkurat-Light"/>
            </a:endParaRPr>
          </a:p>
          <a:p>
            <a:pPr lvl="1" marL="766800" indent="-280080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kkurat Office Regular"/>
                <a:ea typeface="Akkurat Office Regular"/>
              </a:rPr>
              <a:t>Teleskop-Mount (La Palma):</a:t>
            </a:r>
            <a:endParaRPr b="0" lang="en-US" sz="1900" spc="-1" strike="noStrike">
              <a:solidFill>
                <a:srgbClr val="000000"/>
              </a:solidFill>
              <a:latin typeface="Akkurat-Light"/>
            </a:endParaRPr>
          </a:p>
          <a:p>
            <a:pPr lvl="1" marL="766800" indent="-280080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kkurat Office Regular"/>
                <a:ea typeface="Akkurat Office Regular"/>
              </a:rPr>
              <a:t>9 m</a:t>
            </a:r>
            <a:r>
              <a:rPr b="0" lang="de-DE" sz="1900" spc="-1" strike="noStrike" baseline="32000">
                <a:solidFill>
                  <a:srgbClr val="000000"/>
                </a:solidFill>
                <a:latin typeface="Akkurat Office Regular"/>
                <a:ea typeface="Akkurat Office Regular"/>
              </a:rPr>
              <a:t>2</a:t>
            </a:r>
            <a:r>
              <a:rPr b="0" lang="de-DE" sz="1900" spc="-1" strike="noStrike">
                <a:solidFill>
                  <a:srgbClr val="000000"/>
                </a:solidFill>
                <a:latin typeface="Akkurat Office Regular"/>
                <a:ea typeface="Akkurat Office Regular"/>
              </a:rPr>
              <a:t> Spiegel hoher Reflektivität </a:t>
            </a:r>
            <a:endParaRPr b="0" lang="en-US" sz="1900" spc="-1" strike="noStrike">
              <a:solidFill>
                <a:srgbClr val="000000"/>
              </a:solidFill>
              <a:latin typeface="Akkurat-Light"/>
            </a:endParaRPr>
          </a:p>
          <a:p>
            <a:pPr lvl="1" marL="766800" indent="-280080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kkurat Office Regular"/>
                <a:ea typeface="Akkurat Office Regular"/>
              </a:rPr>
              <a:t>Mikrocontroller basiertes Drivesystem </a:t>
            </a:r>
            <a:endParaRPr b="0" lang="en-US" sz="1900" spc="-1" strike="noStrike">
              <a:solidFill>
                <a:srgbClr val="000000"/>
              </a:solidFill>
              <a:latin typeface="Akkurat-Light"/>
            </a:endParaRPr>
          </a:p>
          <a:p>
            <a:pPr lvl="1" marL="766800" indent="-280080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kkurat Office Regular"/>
                <a:ea typeface="Akkurat Office Regular"/>
              </a:rPr>
              <a:t>Erfahrung mit  36 Pixel-Testkamera M0</a:t>
            </a:r>
            <a:endParaRPr b="0" lang="en-US" sz="19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35" name="Rectangle 4"/>
          <p:cNvSpPr/>
          <p:nvPr/>
        </p:nvSpPr>
        <p:spPr>
          <a:xfrm>
            <a:off x="237960" y="1571760"/>
            <a:ext cx="5861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691e"/>
                </a:solidFill>
                <a:latin typeface="Akkurat-Bold"/>
                <a:ea typeface="Akkurat-Bold"/>
              </a:rPr>
              <a:t>TU Dortmund, EPF Lausanne, U Würzburg, ETH Zür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5" descr=""/>
          <p:cNvPicPr/>
          <p:nvPr/>
        </p:nvPicPr>
        <p:blipFill>
          <a:blip r:embed="rId2"/>
          <a:stretch/>
        </p:blipFill>
        <p:spPr>
          <a:xfrm>
            <a:off x="6107040" y="1679400"/>
            <a:ext cx="2846520" cy="259092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6"/>
          <p:cNvSpPr/>
          <p:nvPr/>
        </p:nvSpPr>
        <p:spPr>
          <a:xfrm>
            <a:off x="6350040" y="1803240"/>
            <a:ext cx="156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hotomon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1" descr=""/>
          <p:cNvPicPr/>
          <p:nvPr/>
        </p:nvPicPr>
        <p:blipFill>
          <a:blip r:embed="rId1"/>
          <a:stretch/>
        </p:blipFill>
        <p:spPr>
          <a:xfrm>
            <a:off x="420840" y="714240"/>
            <a:ext cx="3297240" cy="1973520"/>
          </a:xfrm>
          <a:prstGeom prst="rect">
            <a:avLst/>
          </a:prstGeom>
          <a:ln w="0">
            <a:noFill/>
          </a:ln>
        </p:spPr>
      </p:pic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4360" y="-4680"/>
            <a:ext cx="8132760" cy="1147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kkurat-Bold"/>
                <a:ea typeface="Akkurat-Bold"/>
              </a:rPr>
              <a:t>Photodetektion mit Geiger Mode-APDs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kkurat-Bold"/>
                <a:ea typeface="Akkurat-Bold"/>
              </a:rPr>
              <a:t>und 2 GHz DRS-Ringsampler</a:t>
            </a: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212400" y="2717280"/>
            <a:ext cx="3924360" cy="40640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kkurat Office Regular"/>
                <a:ea typeface="Akkurat Office Regular"/>
              </a:rPr>
              <a:t>Vorteile:</a:t>
            </a:r>
            <a:endParaRPr b="0" lang="en-US" sz="1500" spc="-1" strike="noStrike">
              <a:solidFill>
                <a:srgbClr val="000000"/>
              </a:solidFill>
              <a:latin typeface="Akkurat-Light"/>
            </a:endParaRPr>
          </a:p>
          <a:p>
            <a:pPr lvl="1" marL="782640" indent="-285840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kkurat Office Regular"/>
                <a:ea typeface="Akkurat Office Regular"/>
              </a:rPr>
              <a:t>Hohe PDE ( teilweise  &gt; PMT-PDE )</a:t>
            </a:r>
            <a:endParaRPr b="0" lang="en-US" sz="1300" spc="-1" strike="noStrike">
              <a:solidFill>
                <a:srgbClr val="000000"/>
              </a:solidFill>
              <a:latin typeface="Akkurat-Light"/>
            </a:endParaRPr>
          </a:p>
          <a:p>
            <a:pPr lvl="1" marL="782640" indent="-285840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kkurat Office Regular"/>
                <a:ea typeface="Akkurat Office Regular"/>
              </a:rPr>
              <a:t>Verstärkung: 10</a:t>
            </a:r>
            <a:r>
              <a:rPr b="0" lang="de-DE" sz="1300" spc="-1" strike="noStrike" baseline="32000">
                <a:solidFill>
                  <a:srgbClr val="000000"/>
                </a:solidFill>
                <a:latin typeface="Akkurat Office Regular"/>
                <a:ea typeface="Akkurat Office Regular"/>
              </a:rPr>
              <a:t>5</a:t>
            </a:r>
            <a:r>
              <a:rPr b="0" lang="de-DE" sz="1300" spc="-1" strike="noStrike">
                <a:solidFill>
                  <a:srgbClr val="000000"/>
                </a:solidFill>
                <a:latin typeface="Akkurat Office Regular"/>
                <a:ea typeface="Akkurat Office Regular"/>
              </a:rPr>
              <a:t>-10</a:t>
            </a:r>
            <a:r>
              <a:rPr b="0" lang="de-DE" sz="1300" spc="-1" strike="noStrike" baseline="32000">
                <a:solidFill>
                  <a:srgbClr val="000000"/>
                </a:solidFill>
                <a:latin typeface="Akkurat Office Regular"/>
                <a:ea typeface="Akkurat Office Regular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Akkurat-Light"/>
            </a:endParaRPr>
          </a:p>
          <a:p>
            <a:pPr lvl="1" marL="782640" indent="-285840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kkurat Office Regular"/>
                <a:ea typeface="Akkurat Office Regular"/>
              </a:rPr>
              <a:t>Einzelphotonenauflösung </a:t>
            </a:r>
            <a:endParaRPr b="0" lang="en-US" sz="1300" spc="-1" strike="noStrike">
              <a:solidFill>
                <a:srgbClr val="000000"/>
              </a:solidFill>
              <a:latin typeface="Akkurat-Light"/>
            </a:endParaRPr>
          </a:p>
          <a:p>
            <a:pPr lvl="1" marL="782640" indent="-285840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kkurat Office Regular"/>
                <a:ea typeface="Akkurat Office Regular"/>
              </a:rPr>
              <a:t>vernachlässigbarer Zeit-Jitter </a:t>
            </a:r>
            <a:endParaRPr b="0" lang="en-US" sz="1300" spc="-1" strike="noStrike">
              <a:solidFill>
                <a:srgbClr val="000000"/>
              </a:solidFill>
              <a:latin typeface="Akkurat-Light"/>
            </a:endParaRPr>
          </a:p>
          <a:p>
            <a:pPr lvl="1" marL="782640" indent="-285840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kkurat Office Regular"/>
                <a:ea typeface="Akkurat Office Regular"/>
              </a:rPr>
              <a:t>Niedrige Bias-Spannung ~ 70V</a:t>
            </a:r>
            <a:endParaRPr b="0" lang="en-US" sz="1300" spc="-1" strike="noStrike">
              <a:solidFill>
                <a:srgbClr val="000000"/>
              </a:solidFill>
              <a:latin typeface="Akkurat-Light"/>
            </a:endParaRPr>
          </a:p>
          <a:p>
            <a:pPr lvl="1" marL="782640" indent="-285840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kkurat Office Regular"/>
                <a:ea typeface="Akkurat Office Regular"/>
              </a:rPr>
              <a:t>Tageslicht-unempfindlich</a:t>
            </a:r>
            <a:endParaRPr b="0" lang="en-US" sz="1300" spc="-1" strike="noStrike">
              <a:solidFill>
                <a:srgbClr val="000000"/>
              </a:solidFill>
              <a:latin typeface="Akkurat-Light"/>
            </a:endParaRPr>
          </a:p>
          <a:p>
            <a:pPr lvl="1" marL="782640" indent="-285840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kkurat Office Regular"/>
                <a:ea typeface="Akkurat Office Regular"/>
              </a:rPr>
              <a:t>Unempfindlich gegen Magnetfelder</a:t>
            </a:r>
            <a:endParaRPr b="0" lang="en-US" sz="1300" spc="-1" strike="noStrike">
              <a:solidFill>
                <a:srgbClr val="000000"/>
              </a:solidFill>
              <a:latin typeface="Akkurat-Light"/>
            </a:endParaRPr>
          </a:p>
          <a:p>
            <a:pPr lvl="1" marL="782640" indent="-285840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kkurat Office Regular"/>
                <a:ea typeface="Akkurat Office Regular"/>
              </a:rPr>
              <a:t>Sehr kompakt</a:t>
            </a:r>
            <a:endParaRPr b="0" lang="en-US" sz="1300" spc="-1" strike="noStrike">
              <a:solidFill>
                <a:srgbClr val="000000"/>
              </a:solidFill>
              <a:latin typeface="Akkurat-Light"/>
            </a:endParaRPr>
          </a:p>
          <a:p>
            <a:pPr lvl="1" marL="782640" indent="-285840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kkurat Office Regular"/>
                <a:ea typeface="Akkurat Office Regular"/>
              </a:rPr>
              <a:t>Sinkende Kosten</a:t>
            </a:r>
            <a:endParaRPr b="0" lang="en-US" sz="1300" spc="-1" strike="noStrike">
              <a:solidFill>
                <a:srgbClr val="000000"/>
              </a:solidFill>
              <a:latin typeface="Akkurat-Light"/>
            </a:endParaRPr>
          </a:p>
          <a:p>
            <a:pPr lvl="1" marL="782640" indent="-285840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kkurat Office Regular"/>
                <a:ea typeface="Akkurat Office Regular"/>
              </a:rPr>
              <a:t>Unabhängig von PM-Produktion</a:t>
            </a:r>
            <a:endParaRPr b="0" lang="en-US" sz="1300" spc="-1" strike="noStrike">
              <a:solidFill>
                <a:srgbClr val="000000"/>
              </a:solidFill>
              <a:latin typeface="Akkurat-Light"/>
            </a:endParaRPr>
          </a:p>
          <a:p>
            <a:pPr marL="3826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kkurat Office Regular"/>
                <a:ea typeface="Akkurat Office Regular"/>
              </a:rPr>
              <a:t>Nachteile:</a:t>
            </a:r>
            <a:endParaRPr b="0" lang="en-US" sz="1500" spc="-1" strike="noStrike">
              <a:solidFill>
                <a:srgbClr val="000000"/>
              </a:solidFill>
              <a:latin typeface="Akkurat-Light"/>
            </a:endParaRPr>
          </a:p>
          <a:p>
            <a:pPr lvl="1" marL="782640" indent="-285840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kkurat Office Regular"/>
                <a:ea typeface="Akkurat Office Regular"/>
              </a:rPr>
              <a:t>Verstärkung ist Temperatur-abhängig</a:t>
            </a:r>
            <a:endParaRPr b="0" lang="en-US" sz="1300" spc="-1" strike="noStrike">
              <a:solidFill>
                <a:srgbClr val="000000"/>
              </a:solidFill>
              <a:latin typeface="Akkurat-Light"/>
            </a:endParaRPr>
          </a:p>
          <a:p>
            <a:pPr lvl="1" marL="782640" indent="-285840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kkurat Office Regular"/>
                <a:ea typeface="Akkurat Office Regular"/>
              </a:rPr>
              <a:t>Optisches Übersprechen</a:t>
            </a:r>
            <a:endParaRPr b="0" lang="en-US" sz="1300" spc="-1" strike="noStrike">
              <a:solidFill>
                <a:srgbClr val="000000"/>
              </a:solidFill>
              <a:latin typeface="Akkurat-Light"/>
            </a:endParaRPr>
          </a:p>
          <a:p>
            <a:pPr lvl="1" marL="782640" indent="-285840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kkurat Office Regular"/>
                <a:ea typeface="Akkurat Office Regular"/>
              </a:rPr>
              <a:t>keine Erfahrungen in IACTs</a:t>
            </a:r>
            <a:endParaRPr b="0" lang="en-US" sz="1300" spc="-1" strike="noStrike">
              <a:solidFill>
                <a:srgbClr val="000000"/>
              </a:solidFill>
              <a:latin typeface="Akkurat-Light"/>
            </a:endParaRPr>
          </a:p>
        </p:txBody>
      </p:sp>
      <p:pic>
        <p:nvPicPr>
          <p:cNvPr id="641" name="Picture 4" descr=""/>
          <p:cNvPicPr/>
          <p:nvPr/>
        </p:nvPicPr>
        <p:blipFill>
          <a:blip r:embed="rId2"/>
          <a:stretch/>
        </p:blipFill>
        <p:spPr>
          <a:xfrm>
            <a:off x="4057560" y="3963960"/>
            <a:ext cx="5232600" cy="296712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5" descr=""/>
          <p:cNvPicPr/>
          <p:nvPr/>
        </p:nvPicPr>
        <p:blipFill>
          <a:blip r:embed="rId3"/>
          <a:stretch/>
        </p:blipFill>
        <p:spPr>
          <a:xfrm>
            <a:off x="4761000" y="1079640"/>
            <a:ext cx="4076640" cy="280800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6" descr=""/>
          <p:cNvPicPr/>
          <p:nvPr/>
        </p:nvPicPr>
        <p:blipFill>
          <a:blip r:embed="rId4"/>
          <a:stretch/>
        </p:blipFill>
        <p:spPr>
          <a:xfrm>
            <a:off x="5881680" y="5692680"/>
            <a:ext cx="1587600" cy="103032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7"/>
          <p:cNvSpPr/>
          <p:nvPr/>
        </p:nvSpPr>
        <p:spPr>
          <a:xfrm>
            <a:off x="6920280" y="4241880"/>
            <a:ext cx="55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2531160" y="1244520"/>
            <a:ext cx="772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0b00"/>
                </a:solidFill>
                <a:latin typeface="Akkurat-Bold"/>
                <a:ea typeface="Akkurat-Bold"/>
              </a:rPr>
              <a:t>G-A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1" descr=""/>
          <p:cNvPicPr/>
          <p:nvPr/>
        </p:nvPicPr>
        <p:blipFill>
          <a:blip r:embed="rId1"/>
          <a:stretch/>
        </p:blipFill>
        <p:spPr>
          <a:xfrm>
            <a:off x="7304040" y="-19080"/>
            <a:ext cx="2230560" cy="3429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2" descr=""/>
          <p:cNvPicPr/>
          <p:nvPr/>
        </p:nvPicPr>
        <p:blipFill>
          <a:blip r:embed="rId2"/>
          <a:stretch/>
        </p:blipFill>
        <p:spPr>
          <a:xfrm>
            <a:off x="5603760" y="3114720"/>
            <a:ext cx="3510000" cy="35686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3" descr=""/>
          <p:cNvPicPr/>
          <p:nvPr/>
        </p:nvPicPr>
        <p:blipFill>
          <a:blip r:embed="rId3"/>
          <a:stretch/>
        </p:blipFill>
        <p:spPr>
          <a:xfrm>
            <a:off x="160200" y="4525920"/>
            <a:ext cx="5334120" cy="1886040"/>
          </a:xfrm>
          <a:prstGeom prst="rect">
            <a:avLst/>
          </a:prstGeom>
          <a:ln w="0">
            <a:noFill/>
          </a:ln>
        </p:spPr>
      </p:pic>
      <p:sp>
        <p:nvSpPr>
          <p:cNvPr id="649" name="Rectangle 4"/>
          <p:cNvSpPr/>
          <p:nvPr/>
        </p:nvSpPr>
        <p:spPr>
          <a:xfrm>
            <a:off x="7557120" y="2679840"/>
            <a:ext cx="1525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eb00"/>
                </a:solidFill>
                <a:latin typeface="Arial"/>
                <a:ea typeface="Arial"/>
              </a:rPr>
              <a:t>80 cm Spieg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5"/>
          <p:cNvSpPr/>
          <p:nvPr/>
        </p:nvSpPr>
        <p:spPr>
          <a:xfrm>
            <a:off x="8723520" y="622440"/>
            <a:ext cx="398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9a00"/>
                </a:solidFill>
                <a:latin typeface="Arial"/>
                <a:ea typeface="Arial"/>
              </a:rPr>
              <a:t>M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6"/>
          <p:cNvSpPr/>
          <p:nvPr/>
        </p:nvSpPr>
        <p:spPr>
          <a:xfrm>
            <a:off x="104400" y="4071960"/>
            <a:ext cx="5552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  <a:ea typeface="Arial"/>
              </a:rPr>
              <a:t>Erste von der GAPD-Kamera M0  selbst getriggerte Luftschauer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7"/>
          <p:cNvSpPr/>
          <p:nvPr/>
        </p:nvSpPr>
        <p:spPr>
          <a:xfrm>
            <a:off x="7772400" y="203040"/>
            <a:ext cx="952560" cy="1295640"/>
          </a:xfrm>
          <a:prstGeom prst="rect">
            <a:avLst/>
          </a:prstGeom>
          <a:noFill/>
          <a:ln w="38160">
            <a:solidFill>
              <a:srgbClr val="fd9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8" descr=""/>
          <p:cNvPicPr/>
          <p:nvPr/>
        </p:nvPicPr>
        <p:blipFill>
          <a:blip r:embed="rId4"/>
          <a:stretch/>
        </p:blipFill>
        <p:spPr>
          <a:xfrm>
            <a:off x="3359160" y="146160"/>
            <a:ext cx="3922560" cy="2933640"/>
          </a:xfrm>
          <a:prstGeom prst="rect">
            <a:avLst/>
          </a:prstGeom>
          <a:ln w="0">
            <a:noFill/>
          </a:ln>
        </p:spPr>
      </p:pic>
      <p:sp>
        <p:nvSpPr>
          <p:cNvPr id="654" name="AutoShape 9"/>
          <p:cNvSpPr/>
          <p:nvPr/>
        </p:nvSpPr>
        <p:spPr>
          <a:xfrm>
            <a:off x="2882880" y="-685800"/>
            <a:ext cx="4356000" cy="4203720"/>
          </a:xfrm>
          <a:custGeom>
            <a:avLst/>
            <a:gdLst>
              <a:gd name="textAreaLeft" fmla="*/ 0 w 4356000"/>
              <a:gd name="textAreaRight" fmla="*/ 4356360 w 4356000"/>
              <a:gd name="textAreaTop" fmla="*/ 0 h 4203720"/>
              <a:gd name="textAreaBottom" fmla="*/ 4204080 h 4203720"/>
            </a:gdLst>
            <a:ahLst/>
            <a:rect l="textAreaLeft" t="textAreaTop" r="textAreaRight" b="textAreaBottom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1" y="16796"/>
                </a:cubicBezTo>
                <a:cubicBezTo>
                  <a:pt x="-961" y="12954"/>
                  <a:pt x="-961" y="6724"/>
                  <a:pt x="2881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noFill/>
          <a:ln w="63360">
            <a:solidFill>
              <a:srgbClr val="fd9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10" descr=""/>
          <p:cNvPicPr/>
          <p:nvPr/>
        </p:nvPicPr>
        <p:blipFill>
          <a:blip r:embed="rId5"/>
          <a:stretch/>
        </p:blipFill>
        <p:spPr>
          <a:xfrm>
            <a:off x="39600" y="1465200"/>
            <a:ext cx="3589560" cy="2579760"/>
          </a:xfrm>
          <a:prstGeom prst="rect">
            <a:avLst/>
          </a:prstGeom>
          <a:ln w="0">
            <a:noFill/>
          </a:ln>
        </p:spPr>
      </p:pic>
      <p:sp>
        <p:nvSpPr>
          <p:cNvPr id="656" name="AutoShape 11"/>
          <p:cNvSpPr/>
          <p:nvPr/>
        </p:nvSpPr>
        <p:spPr>
          <a:xfrm>
            <a:off x="7035840" y="266760"/>
            <a:ext cx="723960" cy="253800"/>
          </a:xfrm>
          <a:prstGeom prst="rightArrow">
            <a:avLst>
              <a:gd name="adj1" fmla="val 28898"/>
              <a:gd name="adj2" fmla="val 142135"/>
            </a:avLst>
          </a:prstGeom>
          <a:solidFill>
            <a:srgbClr val="fd9a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7160" y="301320"/>
            <a:ext cx="509292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939"/>
                </a:solidFill>
                <a:latin typeface="Akkurat-Bold"/>
                <a:ea typeface="Akkurat-Bold"/>
              </a:rPr>
              <a:t>2009: Erfolgreicher Test </a:t>
            </a:r>
            <a:br>
              <a:rPr sz="2200"/>
            </a:br>
            <a:r>
              <a:rPr b="0" lang="en-US" sz="2200" spc="-1" strike="noStrike">
                <a:solidFill>
                  <a:srgbClr val="002939"/>
                </a:solidFill>
                <a:latin typeface="Akkurat-Bold"/>
                <a:ea typeface="Akkurat-Bold"/>
              </a:rPr>
              <a:t>der 36-Pixel (144 G-APD)</a:t>
            </a:r>
            <a:br>
              <a:rPr sz="2200"/>
            </a:br>
            <a:r>
              <a:rPr b="0" lang="en-US" sz="2200" spc="-1" strike="noStrike">
                <a:solidFill>
                  <a:srgbClr val="002939"/>
                </a:solidFill>
                <a:latin typeface="Akkurat-Bold"/>
                <a:ea typeface="Akkurat-Bold"/>
              </a:rPr>
              <a:t>Testkamera M0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658" name="AutoShape 13"/>
          <p:cNvSpPr/>
          <p:nvPr/>
        </p:nvSpPr>
        <p:spPr>
          <a:xfrm rot="14045400">
            <a:off x="3380760" y="2669760"/>
            <a:ext cx="2921040" cy="291960"/>
          </a:xfrm>
          <a:prstGeom prst="rightArrow">
            <a:avLst>
              <a:gd name="adj1" fmla="val 32000"/>
              <a:gd name="adj2" fmla="val 191437"/>
            </a:avLst>
          </a:prstGeom>
          <a:solidFill>
            <a:srgbClr val="f3eb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14"/>
          <p:cNvSpPr/>
          <p:nvPr/>
        </p:nvSpPr>
        <p:spPr>
          <a:xfrm>
            <a:off x="152280" y="6426360"/>
            <a:ext cx="4889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Signal-Amplitude                            Signal-Tim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1" descr=""/>
          <p:cNvPicPr/>
          <p:nvPr/>
        </p:nvPicPr>
        <p:blipFill>
          <a:blip r:embed="rId1"/>
          <a:stretch/>
        </p:blipFill>
        <p:spPr>
          <a:xfrm>
            <a:off x="4933800" y="2523960"/>
            <a:ext cx="4173840" cy="4280040"/>
          </a:xfrm>
          <a:prstGeom prst="rect">
            <a:avLst/>
          </a:prstGeom>
          <a:ln w="0">
            <a:noFill/>
          </a:ln>
        </p:spPr>
      </p:pic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39840" y="453600"/>
            <a:ext cx="298440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kkurat-Bold"/>
                <a:ea typeface="Akkurat-Bold"/>
              </a:rPr>
              <a:t>2010: 1440-Pixel G-APD-Kamera</a:t>
            </a:r>
            <a:r>
              <a:rPr b="0" lang="en-US" sz="2200" spc="-1" strike="noStrike">
                <a:solidFill>
                  <a:srgbClr val="000000"/>
                </a:solidFill>
                <a:latin typeface="Akkurat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pic>
        <p:nvPicPr>
          <p:cNvPr id="662" name="Picture 3" descr=""/>
          <p:cNvPicPr/>
          <p:nvPr/>
        </p:nvPicPr>
        <p:blipFill>
          <a:blip r:embed="rId2"/>
          <a:stretch/>
        </p:blipFill>
        <p:spPr>
          <a:xfrm>
            <a:off x="88920" y="2755800"/>
            <a:ext cx="5156280" cy="359424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"/>
          <p:cNvPicPr/>
          <p:nvPr/>
        </p:nvPicPr>
        <p:blipFill>
          <a:blip r:embed="rId3"/>
          <a:stretch/>
        </p:blipFill>
        <p:spPr>
          <a:xfrm>
            <a:off x="3187800" y="68400"/>
            <a:ext cx="6006960" cy="280656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259200" y="1486080"/>
            <a:ext cx="2801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Bold"/>
                <a:ea typeface="Akkurat-Bold"/>
              </a:rPr>
              <a:t>DAQ in Kamera integri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6869160" y="5092560"/>
            <a:ext cx="70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8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7"/>
          <p:cNvSpPr/>
          <p:nvPr/>
        </p:nvSpPr>
        <p:spPr>
          <a:xfrm flipV="1">
            <a:off x="5576040" y="3223800"/>
            <a:ext cx="2900520" cy="28400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8"/>
          <p:cNvSpPr/>
          <p:nvPr/>
        </p:nvSpPr>
        <p:spPr>
          <a:xfrm>
            <a:off x="6364440" y="3048120"/>
            <a:ext cx="14997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0b00"/>
                </a:solidFill>
                <a:latin typeface="Akkurat-Bold"/>
                <a:ea typeface="Akkurat-Bold"/>
              </a:rPr>
              <a:t>Größe e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0b00"/>
                </a:solidFill>
                <a:latin typeface="Akkurat-Bold"/>
                <a:ea typeface="Akkurat-Bold"/>
              </a:rPr>
              <a:t>MAGIC Pi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0b00"/>
                </a:solidFill>
                <a:latin typeface="Akkurat-Bold"/>
                <a:ea typeface="Akkurat-Bold"/>
              </a:rPr>
              <a:t>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AutoShape 9"/>
          <p:cNvSpPr/>
          <p:nvPr/>
        </p:nvSpPr>
        <p:spPr>
          <a:xfrm flipH="1">
            <a:off x="5066640" y="4191120"/>
            <a:ext cx="1676520" cy="939600"/>
          </a:xfrm>
          <a:prstGeom prst="rightArrow">
            <a:avLst>
              <a:gd name="adj1" fmla="val 32000"/>
              <a:gd name="adj2" fmla="val 59476"/>
            </a:avLst>
          </a:prstGeom>
          <a:solidFill>
            <a:srgbClr val="fff95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10"/>
          <p:cNvSpPr/>
          <p:nvPr/>
        </p:nvSpPr>
        <p:spPr>
          <a:xfrm>
            <a:off x="5286240" y="4500720"/>
            <a:ext cx="123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Lichteinf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11"/>
          <p:cNvSpPr/>
          <p:nvPr/>
        </p:nvSpPr>
        <p:spPr>
          <a:xfrm>
            <a:off x="1905120" y="6210360"/>
            <a:ext cx="3225600" cy="355680"/>
          </a:xfrm>
          <a:prstGeom prst="rect">
            <a:avLst/>
          </a:prstGeom>
          <a:solidFill>
            <a:srgbClr val="b7b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ail structure of the cam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Oval 12"/>
          <p:cNvSpPr/>
          <p:nvPr/>
        </p:nvSpPr>
        <p:spPr>
          <a:xfrm>
            <a:off x="5842080" y="3289320"/>
            <a:ext cx="393480" cy="419040"/>
          </a:xfrm>
          <a:prstGeom prst="ellipse">
            <a:avLst/>
          </a:prstGeom>
          <a:noFill/>
          <a:ln w="38160">
            <a:solidFill>
              <a:srgbClr val="d90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Oval 13"/>
          <p:cNvSpPr/>
          <p:nvPr/>
        </p:nvSpPr>
        <p:spPr>
          <a:xfrm>
            <a:off x="6566040" y="5651640"/>
            <a:ext cx="279360" cy="291960"/>
          </a:xfrm>
          <a:prstGeom prst="ellipse">
            <a:avLst/>
          </a:prstGeom>
          <a:noFill/>
          <a:ln w="38160">
            <a:solidFill>
              <a:srgbClr val="002d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14"/>
          <p:cNvSpPr/>
          <p:nvPr/>
        </p:nvSpPr>
        <p:spPr>
          <a:xfrm>
            <a:off x="6911640" y="5473800"/>
            <a:ext cx="1286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d99"/>
                </a:solidFill>
                <a:latin typeface="Akkurat-Bold"/>
                <a:ea typeface="Akkurat-Bold"/>
              </a:rPr>
              <a:t>Größe ei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d99"/>
                </a:solidFill>
                <a:latin typeface="Akkurat-Bold"/>
                <a:ea typeface="Akkurat-Bold"/>
              </a:rPr>
              <a:t>CT3 Pix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d99"/>
                </a:solidFill>
                <a:latin typeface="Akkurat-Bold"/>
                <a:ea typeface="Akkurat-Bold"/>
              </a:rPr>
              <a:t>2 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99680" y="428760"/>
            <a:ext cx="8132760" cy="1147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kkurat Office Bold"/>
                <a:ea typeface="Akkurat Office Bold"/>
              </a:rPr>
              <a:t>Zusammenfassung</a:t>
            </a: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99680" y="178560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kkurat Office Bold"/>
                <a:ea typeface="Akkurat Office Bold"/>
              </a:rPr>
              <a:t>Die G-APD Technologie  ist eine technisch und finanziell ernstzunehmende Alternative zur Photomultiplier-Technologie.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marL="3826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kkurat Office Bold"/>
                <a:ea typeface="Akkurat Office Bold"/>
              </a:rPr>
              <a:t>Mit FACT ist das erste G-APD-Cherenkov-Teleskop im Aufbau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1" marL="782640" indent="-285840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kkurat Office Bold"/>
                <a:ea typeface="Akkurat Office Bold"/>
              </a:rPr>
              <a:t>Prototyp-Kamera M0 erfolgreich betrieben und getestet.</a:t>
            </a:r>
            <a:endParaRPr b="0" lang="en-US" sz="1600" spc="-1" strike="noStrike">
              <a:solidFill>
                <a:srgbClr val="000000"/>
              </a:solidFill>
              <a:latin typeface="Akkurat-Light"/>
            </a:endParaRPr>
          </a:p>
          <a:p>
            <a:pPr lvl="1" marL="782640" indent="-285840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kkurat Office Bold"/>
                <a:ea typeface="Akkurat Office Bold"/>
              </a:rPr>
              <a:t>Teleskop-Hardware vorhanden und zum Einbau bereit.</a:t>
            </a:r>
            <a:endParaRPr b="0" lang="en-US" sz="1600" spc="-1" strike="noStrike">
              <a:solidFill>
                <a:srgbClr val="000000"/>
              </a:solidFill>
              <a:latin typeface="Akkurat-Light"/>
            </a:endParaRPr>
          </a:p>
          <a:p>
            <a:pPr lvl="1" marL="782640" indent="-285840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kkurat Office Bold"/>
                <a:ea typeface="Akkurat Office Bold"/>
              </a:rPr>
              <a:t>Inbetriebnahme: Ende 2010</a:t>
            </a:r>
            <a:endParaRPr b="0" lang="en-US" sz="1600" spc="-1" strike="noStrike">
              <a:solidFill>
                <a:srgbClr val="000000"/>
              </a:solidFill>
              <a:latin typeface="Akkurat-Light"/>
            </a:endParaRPr>
          </a:p>
          <a:p>
            <a:pPr lvl="1" marL="782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kurat-Light"/>
            </a:endParaRPr>
          </a:p>
          <a:p>
            <a:pPr marL="3826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kkurat Office Bold"/>
                <a:ea typeface="Akkurat Office Bold"/>
              </a:rPr>
              <a:t>Ziel: </a:t>
            </a:r>
            <a:r>
              <a:rPr b="0" lang="de-DE" sz="1800" spc="-1" strike="noStrike">
                <a:solidFill>
                  <a:srgbClr val="a40800"/>
                </a:solidFill>
                <a:latin typeface="Akkurat Office Bold"/>
                <a:ea typeface="Akkurat Office Bold"/>
              </a:rPr>
              <a:t>Langzeitbetrieb der  Kamera </a:t>
            </a:r>
            <a:r>
              <a:rPr b="0" lang="de-DE" sz="1800" spc="-1" strike="noStrike">
                <a:solidFill>
                  <a:srgbClr val="000000"/>
                </a:solidFill>
                <a:latin typeface="Akkurat Office Bold"/>
                <a:ea typeface="Akkurat Office Bold"/>
              </a:rPr>
              <a:t>im DWARF-Programm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1" marL="782640" indent="-285840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kkurat Office Bold"/>
                <a:ea typeface="Akkurat Office Bold"/>
              </a:rPr>
              <a:t>DWARF (Dedicated Worlwide AGN Research Facility)                                                        -&gt; Langzeitbeobachtung von AGN</a:t>
            </a:r>
            <a:endParaRPr b="0" lang="en-US" sz="1600" spc="-1" strike="noStrike">
              <a:solidFill>
                <a:srgbClr val="000000"/>
              </a:solidFill>
              <a:latin typeface="Akkurat-Light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marL="3826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kkurat Office Bold"/>
                <a:ea typeface="Akkurat Office Bold"/>
              </a:rPr>
              <a:t>Förderung: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1" marL="782640" indent="-285840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kkurat Office Bold"/>
                <a:ea typeface="Akkurat Office Bold"/>
              </a:rPr>
              <a:t> </a:t>
            </a:r>
            <a:r>
              <a:rPr b="0" lang="de-DE" sz="1500" spc="-1" strike="noStrike">
                <a:solidFill>
                  <a:srgbClr val="000000"/>
                </a:solidFill>
                <a:latin typeface="Akkurat Office Bold"/>
                <a:ea typeface="Akkurat Office Bold"/>
              </a:rPr>
              <a:t>TU Dortmund, Uni Würzburg, ETH Zürich, SNF, BMBF</a:t>
            </a:r>
            <a:endParaRPr b="0" lang="en-US" sz="1500" spc="-1" strike="noStrike">
              <a:solidFill>
                <a:srgbClr val="000000"/>
              </a:solidFill>
              <a:latin typeface="Akkurat-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olfgang Rhode</dc:creator>
  <dc:description/>
  <dc:language>en-US</dc:language>
  <cp:lastModifiedBy>Rhode</cp:lastModifiedBy>
  <dcterms:modified xsi:type="dcterms:W3CDTF">2010-02-23T12:21:13Z</dcterms:modified>
  <cp:revision>1</cp:revision>
  <dc:subject/>
  <dc:title>Folie 1</dc:title>
</cp:coreProperties>
</file>